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C2A-5FF8-4B71-B58C-0124631F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9B2-5AA3-4EF8-8C13-84F99896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C1A-9931-444C-BB98-BFA3B2C9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5C1-0E3A-4B90-924E-825DD22C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C0D-900D-439C-B67A-0D485036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884-D835-4672-8813-915D58AD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931-C99D-4992-BC3F-092CC6E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80E-95EE-4E8C-8A55-D5F9E5AD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114-20EA-4434-9D46-BC3A39B6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DFB-C88B-4C7B-9D0E-5505100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B9D-7E9E-4C1E-92C0-1DC9B62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08B-F45B-46CF-A352-94801DA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2360" y="5229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4FA-68A1-4125-A9A3-79B1564EC4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10160"/>
            <a:ext cx="93250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92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4920" y="39600"/>
            <a:ext cx="619200" cy="581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627280" y="189000"/>
            <a:ext cx="3714840" cy="3906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>
            <a:off x="971640" y="1949400"/>
            <a:ext cx="7238880" cy="400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RONOSTICOS A NIVEL DE SKU UTILIZANDO INFORMACION AGREG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an José Jov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esor guía: Marcel G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ctubre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5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43280" y="2293920"/>
                <a:ext cx="2952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2000" y="4059360"/>
                <a:ext cx="66960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/>
                        </m:nary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l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LO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pronosticar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ámetros fáciles de interpretar y con gran cantidad de 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atribu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2680" y="2585880"/>
                <a:ext cx="405756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68680" y="3286080"/>
                <a:ext cx="4429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úmero de parámetros del modelo independiente del número de niveles de cada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7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cado en participacione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ecto fij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ivel de 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2000" y="3284640"/>
                <a:ext cx="3168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11280" y="3141720"/>
            <a:ext cx="6192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um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mo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59280" y="5157720"/>
                <a:ext cx="3384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 interacción entre atributos incorporando el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ecto fij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obtener influencias del marketing mix y elasticidades a nivel de 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información más “accesi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gía de apoyo a las decisiones de lí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pasa s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SKUs elimin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les agre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clase de marketing re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51200"/>
            <a:ext cx="5593320" cy="3565440"/>
            <a:chOff x="2268360" y="1951200"/>
            <a:chExt cx="5593320" cy="3565440"/>
          </a:xfrm>
        </p:grpSpPr>
        <p:sp>
          <p:nvSpPr>
            <p:cNvPr id="138" name=""/>
            <p:cNvSpPr/>
            <p:nvPr/>
          </p:nvSpPr>
          <p:spPr>
            <a:xfrm>
              <a:off x="2268360" y="432576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ción e instrumentación de la s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69800" y="1951200"/>
              <a:ext cx="4606920" cy="398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ción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9800" y="2743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3535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ción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8360" y="511812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álisis y discusión de 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0520" y="234936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0520" y="3141720"/>
              <a:ext cx="142560" cy="358560"/>
            </a:xfrm>
            <a:prstGeom prst="downArrow">
              <a:avLst>
                <a:gd name="adj1" fmla="val 50000"/>
                <a:gd name="adj2" fmla="val 628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30520" y="393372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520" y="472428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1" idx="3"/>
              <a:endCxn id="140" idx="3"/>
            </p:cNvCxnSpPr>
            <p:nvPr/>
          </p:nvCxnSpPr>
          <p:spPr>
            <a:xfrm flipV="1">
              <a:off x="6875280" y="2943000"/>
              <a:ext cx="2160" cy="79272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8" name=""/>
            <p:cNvCxnSpPr>
              <a:stCxn id="138" idx="3"/>
              <a:endCxn id="140" idx="3"/>
            </p:cNvCxnSpPr>
            <p:nvPr/>
          </p:nvCxnSpPr>
          <p:spPr>
            <a:xfrm flipV="1">
              <a:off x="6875280" y="2943000"/>
              <a:ext cx="2160" cy="158328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5627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887480"/>
          <a:ext cx="8748720" cy="3549600"/>
        </p:xfrm>
        <a:graphic>
          <a:graphicData uri="http://schemas.openxmlformats.org/drawingml/2006/table">
            <a:tbl>
              <a:tblPr/>
              <a:tblGrid>
                <a:gridCol w="1638360"/>
                <a:gridCol w="546120"/>
                <a:gridCol w="546120"/>
                <a:gridCol w="547560"/>
                <a:gridCol w="546120"/>
                <a:gridCol w="549360"/>
                <a:gridCol w="546120"/>
                <a:gridCol w="547560"/>
                <a:gridCol w="546120"/>
                <a:gridCol w="546120"/>
                <a:gridCol w="547920"/>
                <a:gridCol w="547560"/>
                <a:gridCol w="547560"/>
                <a:gridCol w="546120"/>
              </a:tblGrid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ón bibliografí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rimentos de prue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elección de metodolog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tención de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dación e Instrumen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discusión de 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icancias y a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ización del 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83528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8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378936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1497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5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bajara bajo un nuevo enfoque que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osticar ventas para productos actuales y extensiones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asticidades a nivel de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r modelos independientes del número de SKUs en la categ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 nueva que no ha sido realmente prob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ia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aplicabilidad del modelo a distint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5840" y="836640"/>
            <a:ext cx="6842160" cy="543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656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¿Pregunt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392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Es posible trabajar a nivel de S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6000" y="2637000"/>
            <a:ext cx="6985080" cy="3097080"/>
            <a:chOff x="1116000" y="2637000"/>
            <a:chExt cx="6985080" cy="3097080"/>
          </a:xfrm>
        </p:grpSpPr>
        <p:sp>
          <p:nvSpPr>
            <p:cNvPr id="56" name=""/>
            <p:cNvSpPr/>
            <p:nvPr/>
          </p:nvSpPr>
          <p:spPr>
            <a:xfrm>
              <a:off x="5654880" y="529200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g John, P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760" y="529200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 - 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6000" y="529200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das de conven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54880" y="484920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s, Economax, Montecar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1760" y="484920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00 - 1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6000" y="484920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4880" y="440712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mac, Unimarc, Sta. Is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51760" y="440712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16000" y="440712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tradi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54880" y="3963960"/>
              <a:ext cx="24458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k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1760" y="3963960"/>
              <a:ext cx="2102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6000" y="3963960"/>
              <a:ext cx="2435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4880" y="352188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m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51760" y="352188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352188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880" y="307908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der, Carref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51760" y="307908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6000" y="307908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ga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880" y="2637000"/>
              <a:ext cx="2445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Ejemp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51760" y="2637000"/>
              <a:ext cx="210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Variedad de produc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2637000"/>
              <a:ext cx="2435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6000" y="2637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6000" y="5734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1600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0108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6000" y="3079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6000" y="35218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16000" y="396396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0712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00" y="48492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00" y="5292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-30600" y="6093000"/>
            <a:ext cx="77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Máximo Bosch, apuntes del curso gestión de operaciones para la industri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egory Management implica definir a las categorías como unidades estratégicas de negocios y que es necesario involucrar al proveedor para asegurar un expertise suficiente sobre la categoría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a bien a nivel táctico –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tomar decisiones para miles de productos distintos respecto a las variables precio, espacio, surtido y promo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240360" cy="255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995640" y="2492280"/>
            <a:ext cx="15098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95640" y="3284280"/>
            <a:ext cx="150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645000"/>
            <a:ext cx="15098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3645000"/>
            <a:ext cx="15098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or: Ment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ño: 100 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: Aqua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: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s como conjunto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 como función aditiva de los nivele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12:37Z</dcterms:created>
  <dc:creator>Juan José Jove A.</dc:creator>
  <dc:description/>
  <dc:language>en-US</dc:language>
  <cp:lastModifiedBy>julie lagos</cp:lastModifiedBy>
  <dcterms:modified xsi:type="dcterms:W3CDTF">2004-10-22T14:11:45Z</dcterms:modified>
  <cp:revision>56</cp:revision>
  <dc:subject/>
  <dc:title>PRONOSTICOS A NIVEL DE SKU UTILIZANDO INFORMACION AGREGADA</dc:title>
</cp:coreProperties>
</file>